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673E-EFA9-4F44-9D15-7D91EE402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lifetime-fitness.ca/pages/meet-our-trainers/trainer-tips--nutritiona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phschool.com/science/biology_place/biocoach/bioprop/glucose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course1.winona.edu/sberg/241f08/Lec-note/Biochem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mansfield.osu.edu/~sabedon/biol1020.h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rose, maltose (malt sugar used in making beer), lactose (in milk)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amerthehammer.com/2010/12/04/understanding-ingredient-labels-todays-tip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ola bars healthy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ealthyeatingnaturally.wordpress.com/2009/02/11/the-truth-about-granola-bar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ealthyeatingnaturally.wordpress.com/2009/02/11/the-truth-about-granola-bar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yellowtang.org/chemistry.php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herdaily.com/health/892/the-effects-of-food-additives-and-preservatives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homepage.smc.edu/wissmann_paul/anatomy2textbook/phospholipids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empseysresolutionfitness.blogspot.ca/2010/09/trans-fat-truth-myth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medicine-opera.com/2009/07/trans-fats-big-brother-and-sloppy-scienc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upplementquality.com/news/fatty_acid_structur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ioteach.ubc.ca/Bio-industry/Inex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micro.magnet.fsu.edu/cells/plasmamembrane/plasmamembrane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s from: http://en.wikipedia.org/wiki/File:Cholesterol_structure.png and http://commons.wikimedia.org/wiki/File:Testosterone_structure.png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igiwax.com/wax-basics/overview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</a:t>
            </a: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http://www.britannica.com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800mainstreet.com/5/0005-009-polar-molecul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othbrainsandbeauty.com/academic-discussions/chemistry-academic-discussions/functional-groups-429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xyl - in alcohols, carbohydrates, steroids, some amino aci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ate - nucleic acids, ATP, som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yl - in ketones &amp; aldehyd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hydryl - some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xyl - in amino acids, fatty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- in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9693-B249-4688-87F4-84052FC5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52F5-D797-42BF-8B44-68846BEB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6405-2C40-4A67-98A7-FD98D6B1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E153-3946-42DC-8A7E-2E38B86CD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71CD-F7A6-40DF-A85C-4BD616BD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925F-AFA8-4779-A450-78DBBAD5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2E69-7991-447B-BF55-D4344348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4CF1-93AE-4BE3-87E1-E98C3E22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F3B1-0F04-4036-B548-6BEE2E67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ED9C-78B1-499D-9902-4912E4FB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DE28-BA18-4DDC-BC7D-93F19C45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FE06-D006-418C-953A-A2E3C893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4C69-CBB5-489E-AE74-CE0D6426A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yDnnD3fMaU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3xF_LK9pnL0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BI4U - Biochem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hydrates &amp; Lip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hydrates are the most important energy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s cannot synthesize carbohydrates;  they must be consumed in plant materia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8320" y="2652840"/>
            <a:ext cx="380988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sacchar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sugars in straight chain or r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:H:O usually in 1:2:1 ratio (glucose i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 fructose, galactose, ribose, deoxyribo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2062080"/>
            <a:ext cx="380988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sacchar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monosaccharides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om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, glucose, fructose, and galac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944960" y="1981080"/>
            <a:ext cx="32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cchar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ar molecules made from 2 single sug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ed by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hydration synthesis (condensatio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animation: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UyDnnD3fM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suga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62120" y="1981080"/>
            <a:ext cx="401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24040" y="609480"/>
            <a:ext cx="5695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52400" y="609480"/>
            <a:ext cx="7637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lthy” Clif bars 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" y="2838600"/>
            <a:ext cx="777240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ysacchar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ligosacchari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shorter-chain sugars with 3-10 single sug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er chain carbohydrates are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 starch, cellulose, glycogen, chi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ysacchar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43160" y="1981080"/>
            <a:ext cx="465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c Chem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ly the chemistry of compounds produced by living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 organic compounds contain carbon and hydrogen, and usually other elements such as nitrogen, sulfur and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rption of vitam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w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705200" y="1981080"/>
            <a:ext cx="369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glycer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 type of f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ycerol + 3 fatty acid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urated and unsaturated fatty acid ch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animation: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3xF_LK9pnL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48320" y="2446200"/>
            <a:ext cx="380988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 Fa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70080" y="1981080"/>
            <a:ext cx="480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 Fa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338560" y="1981080"/>
            <a:ext cx="4465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mega 3 &amp; 6 Fatty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800" y="2021040"/>
            <a:ext cx="777240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spholip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component of cell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glycerol + 2 fatty acid chains + 1 phosphat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ate end is polar and water-soluble, fatty acid end is non-p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48320" y="2216160"/>
            <a:ext cx="38098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spholip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82640" y="1981080"/>
            <a:ext cx="7578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oids (Sterol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based multiple-ring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make hormones such as estrogen and testoste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8320" y="2116080"/>
            <a:ext cx="3809880" cy="1709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018040" y="4114800"/>
            <a:ext cx="3070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chain fatty acids linked to alcohols/carbon 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as water-proof coating for plant leaves, animal feather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eg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800100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ar vs. Non-P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ecular polarity is determin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arity of bonds within 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y of molecular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arity of molecules or functional groups determines characteristics such as solu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772400" y="2286000"/>
            <a:ext cx="933480" cy="676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705720" y="3124080"/>
            <a:ext cx="12286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744480"/>
            <a:ext cx="777240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-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70000" y="1981080"/>
            <a:ext cx="680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clusters of atoms attached to the carbon backb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groups react in characteristic ways, giving chemical properties to macromolecules, and are involved in most reactions in living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96960" y="1981080"/>
            <a:ext cx="4148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romolec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cromolecu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large molecules that are often composed of repeating sub-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e biologically important macromolecul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hydr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lip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nucleic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0:27:25Z</dcterms:created>
  <dc:creator>rubina khan</dc:creator>
  <dc:description/>
  <dc:language>en-US</dc:language>
  <cp:lastModifiedBy>rubina khan</cp:lastModifiedBy>
  <dcterms:modified xsi:type="dcterms:W3CDTF">2013-02-13T14:33:29Z</dcterms:modified>
  <cp:revision>138</cp:revision>
  <dc:subject/>
  <dc:title>Organic Chemistry</dc:title>
</cp:coreProperties>
</file>